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6"/>
          </p:nvPr>
        </p:nvSpPr>
        <p:spPr>
          <a:xfrm>
            <a:off x="3857760" y="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718920" y="747720"/>
            <a:ext cx="5383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78960" y="4723920"/>
            <a:ext cx="544860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7"/>
          </p:nvPr>
        </p:nvSpPr>
        <p:spPr>
          <a:xfrm>
            <a:off x="-36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8"/>
          </p:nvPr>
        </p:nvSpPr>
        <p:spPr>
          <a:xfrm>
            <a:off x="3857760" y="944244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228228-FE53-4DA5-B20D-AB14BE2AA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19280" y="74772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8960" y="4723920"/>
            <a:ext cx="5448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スライド番号プレースホルダー 3"/>
          <p:cNvSpPr/>
          <p:nvPr/>
        </p:nvSpPr>
        <p:spPr>
          <a:xfrm>
            <a:off x="3857760" y="944244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6C7998-395E-4772-BAEA-76083198596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515-34C0-49FE-9553-DFD7AAB3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BA9-86D6-4381-9318-51AF4416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97C-F532-4137-A8A8-02EDA7B9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18D-9365-43E6-9466-AE07DA50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819-0555-4FEC-A45F-1730743D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DFC-76CF-4D3E-A65F-F8495046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F81-7641-4C6D-A74C-59E78473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98D-1797-4147-B51B-8D61F6C5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ABB-A97E-43ED-A710-2BD3974A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232-1B97-49AD-A52A-4F2788A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AC5-24C1-43AC-A2AF-582D4CCE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7A4-0CB4-48A2-B9D1-4CE8138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0520" y="6485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13F2-6C3F-4F60-8314-1F14430C676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テキスト ボックス 10"/>
          <p:cNvSpPr/>
          <p:nvPr/>
        </p:nvSpPr>
        <p:spPr>
          <a:xfrm>
            <a:off x="0" y="-115920"/>
            <a:ext cx="9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令和</a:t>
            </a: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年度　</a:t>
            </a: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SICORP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EIG CONCERT-Japan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レジリエント、安全、セキュアな社会のための</a:t>
            </a:r>
            <a:r>
              <a:rPr b="1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ICT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非公開資料）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研究課題名</a:t>
            </a: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】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「日本語の研究タイトル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略称／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cronym)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サブタイトル 2"/>
          <p:cNvSpPr/>
          <p:nvPr/>
        </p:nvSpPr>
        <p:spPr>
          <a:xfrm>
            <a:off x="200160" y="692280"/>
            <a:ext cx="9524880" cy="1649160"/>
          </a:xfrm>
          <a:prstGeom prst="rect">
            <a:avLst/>
          </a:prstGeom>
          <a:noFill/>
          <a:ln w="2556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日本側研究代表者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氏名</a:t>
            </a:r>
            <a:r>
              <a:rPr b="0" lang="zh-CN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役職　所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A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代表者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氏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姓・名　カタカナ表記）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役職（日本語表記）　所属（日本語表記）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＜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A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の部分に国名を入れてくださ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B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代表者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氏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姓・名　カタカナ表記）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役職（日本語表記）　所属（日本語表記）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＜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B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の部分に国名を入れてくださ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代表者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氏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姓・名　カタカナ表記）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役職（日本語表記）　所属（日本語表記）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＜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の部分に国名を入れてくださ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コンソーシアムリーダーに下線を引いてください。参加国数が多い場合は＜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D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国＞、＜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E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国＞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…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と増や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提 案 概 要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正方形/長方形 55"/>
          <p:cNvSpPr/>
          <p:nvPr/>
        </p:nvSpPr>
        <p:spPr>
          <a:xfrm>
            <a:off x="165240" y="3284640"/>
            <a:ext cx="5127480" cy="2628720"/>
          </a:xfrm>
          <a:prstGeom prst="rect">
            <a:avLst/>
          </a:prstGeom>
          <a:solidFill>
            <a:srgbClr val="f8fbfc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正方形/長方形 56"/>
          <p:cNvSpPr/>
          <p:nvPr/>
        </p:nvSpPr>
        <p:spPr>
          <a:xfrm>
            <a:off x="200160" y="6027840"/>
            <a:ext cx="5092560" cy="749160"/>
          </a:xfrm>
          <a:prstGeom prst="rect">
            <a:avLst/>
          </a:prstGeom>
          <a:solidFill>
            <a:srgbClr val="f8fbfc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期待される展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わかりやすい記載をお願いいた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フォントは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12PT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以上でお願いいたします。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正方形/長方形 57"/>
          <p:cNvSpPr/>
          <p:nvPr/>
        </p:nvSpPr>
        <p:spPr>
          <a:xfrm>
            <a:off x="3935520" y="3319560"/>
            <a:ext cx="1260360" cy="2254320"/>
          </a:xfrm>
          <a:prstGeom prst="rect">
            <a:avLst/>
          </a:prstGeom>
          <a:solidFill>
            <a:srgbClr val="b2e0f0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期待される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Ｐゴシック"/>
                <a:ea typeface="メイリオ"/>
              </a:rPr>
              <a:t>相乗効果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正方形/長方形 59"/>
          <p:cNvSpPr/>
          <p:nvPr/>
        </p:nvSpPr>
        <p:spPr>
          <a:xfrm>
            <a:off x="236520" y="3429000"/>
            <a:ext cx="3348000" cy="539640"/>
          </a:xfrm>
          <a:prstGeom prst="rect">
            <a:avLst/>
          </a:prstGeom>
          <a:solidFill>
            <a:srgbClr val="b2e0f0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日本チー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日本側の分担内容を記載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正方形/長方形 66"/>
          <p:cNvSpPr/>
          <p:nvPr/>
        </p:nvSpPr>
        <p:spPr>
          <a:xfrm>
            <a:off x="165240" y="2421000"/>
            <a:ext cx="5127480" cy="784080"/>
          </a:xfrm>
          <a:prstGeom prst="rect">
            <a:avLst/>
          </a:prstGeom>
          <a:solidFill>
            <a:srgbClr val="f8fbfc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背景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わかりやすい記載をお願いいた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フォントは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12PT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以上でお願いいたします。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正方形/長方形 70"/>
          <p:cNvSpPr/>
          <p:nvPr/>
        </p:nvSpPr>
        <p:spPr>
          <a:xfrm>
            <a:off x="6465960" y="5315040"/>
            <a:ext cx="2685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図．＜図のタイトルを記載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正方形/長方形 19"/>
          <p:cNvSpPr/>
          <p:nvPr/>
        </p:nvSpPr>
        <p:spPr>
          <a:xfrm>
            <a:off x="236520" y="4041720"/>
            <a:ext cx="3348000" cy="539640"/>
          </a:xfrm>
          <a:prstGeom prst="rect">
            <a:avLst/>
          </a:prstGeom>
          <a:solidFill>
            <a:srgbClr val="b2e0f0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A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 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A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側の分担内容を記載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正方形/長方形 20"/>
          <p:cNvSpPr/>
          <p:nvPr/>
        </p:nvSpPr>
        <p:spPr>
          <a:xfrm>
            <a:off x="236520" y="4653000"/>
            <a:ext cx="3348000" cy="539640"/>
          </a:xfrm>
          <a:prstGeom prst="rect">
            <a:avLst/>
          </a:prstGeom>
          <a:solidFill>
            <a:srgbClr val="b2e0f0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B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 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B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側の分担内容を記載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正方形/長方形 21"/>
          <p:cNvSpPr/>
          <p:nvPr/>
        </p:nvSpPr>
        <p:spPr>
          <a:xfrm>
            <a:off x="236520" y="5265720"/>
            <a:ext cx="3348000" cy="539640"/>
          </a:xfrm>
          <a:prstGeom prst="rect">
            <a:avLst/>
          </a:prstGeom>
          <a:solidFill>
            <a:srgbClr val="b2e0f0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 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側の分担内容を記載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右中かっこ 3"/>
          <p:cNvSpPr/>
          <p:nvPr/>
        </p:nvSpPr>
        <p:spPr>
          <a:xfrm>
            <a:off x="3657600" y="3787920"/>
            <a:ext cx="216000" cy="162072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620720"/>
              <a:gd name="textAreaBottom" fmla="*/ 161532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16200" y="10800"/>
                  <a:pt x="21600" y="10800"/>
                </a:cubicBezTo>
                <a:cubicBezTo>
                  <a:pt x="162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四角形: メモ 22"/>
          <p:cNvSpPr/>
          <p:nvPr/>
        </p:nvSpPr>
        <p:spPr>
          <a:xfrm>
            <a:off x="6340320" y="2820960"/>
            <a:ext cx="2448000" cy="1933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提案内容がわかる図（複数可）を挿入くださ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必要に応じて、図の説明をご記入くださ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正方形/長方形 24"/>
          <p:cNvSpPr/>
          <p:nvPr/>
        </p:nvSpPr>
        <p:spPr>
          <a:xfrm>
            <a:off x="5554800" y="6165720"/>
            <a:ext cx="4170240" cy="596880"/>
          </a:xfrm>
          <a:prstGeom prst="rect">
            <a:avLst/>
          </a:prstGeom>
          <a:solidFill>
            <a:srgbClr val="d9d9d9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事務局コメント欄：記載不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8T10:41:32Z</dcterms:created>
  <dc:creator/>
  <dc:description/>
  <dc:language>en-US</dc:language>
  <cp:lastModifiedBy/>
  <dcterms:modified xsi:type="dcterms:W3CDTF">2020-05-08T11:03:19Z</dcterms:modified>
  <cp:revision>1</cp:revision>
  <dc:subject/>
  <dc:title/>
</cp:coreProperties>
</file>