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26"/>
          </p:nvPr>
        </p:nvSpPr>
        <p:spPr>
          <a:xfrm>
            <a:off x="3857760" y="0"/>
            <a:ext cx="294768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718920" y="747720"/>
            <a:ext cx="5383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78960" y="4723920"/>
            <a:ext cx="544860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27"/>
          </p:nvPr>
        </p:nvSpPr>
        <p:spPr>
          <a:xfrm>
            <a:off x="-360" y="944244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28"/>
          </p:nvPr>
        </p:nvSpPr>
        <p:spPr>
          <a:xfrm>
            <a:off x="3857760" y="9442440"/>
            <a:ext cx="294768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A33849-8915-4D87-8F1B-ECABED6F4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19280" y="747720"/>
            <a:ext cx="5383080" cy="37274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78960" y="4723920"/>
            <a:ext cx="5448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スライド番号プレースホルダー 3"/>
          <p:cNvSpPr/>
          <p:nvPr/>
        </p:nvSpPr>
        <p:spPr>
          <a:xfrm>
            <a:off x="3857760" y="9442440"/>
            <a:ext cx="2947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A435BBE-6EBE-46F0-98BD-8F1623B8E01B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60C6-155E-4D98-8DDC-7CB02E643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50A6-4274-4BE9-9B41-83A87D65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FAFB-5699-46BE-BC1A-89524A423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C654-6B04-4954-B31D-3FBD2FF0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46B1-3606-4B0E-A68F-68473917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7CAF-E407-4E71-94C1-FF4B20AE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E8FE-9F78-45E8-8539-8BBFA25E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A0E1-3152-474E-98CF-E883DF06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3872-A025-494D-83F9-ECD0F556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F59E-AF2B-46C9-92DD-19094DE8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92B6-475A-40DB-A842-B53BFBCB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3B55-3DFF-4A37-83BA-A436C39B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00520" y="648504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E61F-29CA-42FB-B12C-BED5FB28CF17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0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3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3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8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1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テキスト ボックス 10"/>
          <p:cNvSpPr/>
          <p:nvPr/>
        </p:nvSpPr>
        <p:spPr>
          <a:xfrm>
            <a:off x="0" y="-115920"/>
            <a:ext cx="990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令和元年度　</a:t>
            </a:r>
            <a:r>
              <a:rPr b="1" lang="en-US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SICORP</a:t>
            </a:r>
            <a:r>
              <a:rPr b="1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EIG CONCERT-Japan</a:t>
            </a:r>
            <a:r>
              <a:rPr b="1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「</a:t>
            </a:r>
            <a:r>
              <a:rPr b="1" lang="ja-JP" sz="1600" spc="-1" strike="noStrike">
                <a:solidFill>
                  <a:srgbClr val="000000"/>
                </a:solidFill>
                <a:latin typeface="Meiryo UI"/>
                <a:ea typeface="Meiryo UI"/>
              </a:rPr>
              <a:t>持続可能な社会のためのスマートな水管理</a:t>
            </a:r>
            <a:r>
              <a:rPr b="1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」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非公開資料）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</a:rPr>
              <a:t>研究課題名</a:t>
            </a:r>
            <a:r>
              <a:rPr b="1" lang="en-US" sz="1600" spc="-1" strike="noStrike">
                <a:solidFill>
                  <a:srgbClr val="000000"/>
                </a:solidFill>
                <a:latin typeface="ＭＳ Ｐゴシック"/>
              </a:rPr>
              <a:t>】 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「日本語の研究タイトル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略称／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Acronym) 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サブタイトル 2"/>
          <p:cNvSpPr/>
          <p:nvPr/>
        </p:nvSpPr>
        <p:spPr>
          <a:xfrm>
            <a:off x="200160" y="692280"/>
            <a:ext cx="9524880" cy="1649160"/>
          </a:xfrm>
          <a:prstGeom prst="rect">
            <a:avLst/>
          </a:prstGeom>
          <a:noFill/>
          <a:ln w="25560">
            <a:solidFill>
              <a:srgbClr val="8ac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日本側研究代表者：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氏名</a:t>
            </a:r>
            <a:r>
              <a:rPr b="0" lang="zh-CN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役職　所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欧州側＜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A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国＞代表者：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氏名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姓・名　カタカナ表記）　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役職（日本語表記）　所属（日本語表記）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※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＜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A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国＞の部分に国名を入れてくださ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欧州側＜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B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国＞代表者：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氏名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姓・名　カタカナ表記）　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役職（日本語表記）　所属（日本語表記）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※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＜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B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国＞の部分に国名を入れてくださ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欧州側＜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C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国＞代表者：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氏名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姓・名　カタカナ表記）　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役職（日本語表記）　所属（日本語表記）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※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＜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C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国＞の部分に国名を入れてくださ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ＭＳ Ｐゴシック"/>
              </a:rPr>
              <a:t>※</a:t>
            </a:r>
            <a:r>
              <a:rPr b="0" lang="ja-JP" sz="1200" spc="-1" strike="noStrike">
                <a:solidFill>
                  <a:srgbClr val="ff0000"/>
                </a:solidFill>
                <a:latin typeface="ＭＳ Ｐゴシック"/>
              </a:rPr>
              <a:t>コンソーシアムリーダーに下線を引いてください。参加国数が多い場合は＜</a:t>
            </a:r>
            <a:r>
              <a:rPr b="0" lang="en-US" sz="1200" spc="-1" strike="noStrike">
                <a:solidFill>
                  <a:srgbClr val="ff0000"/>
                </a:solidFill>
                <a:latin typeface="ＭＳ Ｐゴシック"/>
              </a:rPr>
              <a:t>D</a:t>
            </a:r>
            <a:r>
              <a:rPr b="0" lang="ja-JP" sz="1200" spc="-1" strike="noStrike">
                <a:solidFill>
                  <a:srgbClr val="ff0000"/>
                </a:solidFill>
                <a:latin typeface="ＭＳ Ｐゴシック"/>
              </a:rPr>
              <a:t>国＞、＜</a:t>
            </a:r>
            <a:r>
              <a:rPr b="0" lang="en-US" sz="1200" spc="-1" strike="noStrike">
                <a:solidFill>
                  <a:srgbClr val="ff0000"/>
                </a:solidFill>
                <a:latin typeface="ＭＳ Ｐゴシック"/>
              </a:rPr>
              <a:t>E</a:t>
            </a:r>
            <a:r>
              <a:rPr b="0" lang="ja-JP" sz="1200" spc="-1" strike="noStrike">
                <a:solidFill>
                  <a:srgbClr val="ff0000"/>
                </a:solidFill>
                <a:latin typeface="ＭＳ Ｐゴシック"/>
              </a:rPr>
              <a:t>国＞</a:t>
            </a:r>
            <a:r>
              <a:rPr b="0" lang="en-US" sz="1200" spc="-1" strike="noStrike">
                <a:solidFill>
                  <a:srgbClr val="ff0000"/>
                </a:solidFill>
                <a:latin typeface="ＭＳ Ｐゴシック"/>
              </a:rPr>
              <a:t>…</a:t>
            </a:r>
            <a:r>
              <a:rPr b="0" lang="ja-JP" sz="1200" spc="-1" strike="noStrike">
                <a:solidFill>
                  <a:srgbClr val="ff0000"/>
                </a:solidFill>
                <a:latin typeface="ＭＳ Ｐゴシック"/>
              </a:rPr>
              <a:t>と増やして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提 案 概 要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正方形/長方形 55"/>
          <p:cNvSpPr/>
          <p:nvPr/>
        </p:nvSpPr>
        <p:spPr>
          <a:xfrm>
            <a:off x="165240" y="3284640"/>
            <a:ext cx="5127480" cy="2628720"/>
          </a:xfrm>
          <a:prstGeom prst="rect">
            <a:avLst/>
          </a:prstGeom>
          <a:solidFill>
            <a:srgbClr val="f8fbfc"/>
          </a:solidFill>
          <a:ln w="255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正方形/長方形 56"/>
          <p:cNvSpPr/>
          <p:nvPr/>
        </p:nvSpPr>
        <p:spPr>
          <a:xfrm>
            <a:off x="200160" y="6027840"/>
            <a:ext cx="5092560" cy="749160"/>
          </a:xfrm>
          <a:prstGeom prst="rect">
            <a:avLst/>
          </a:prstGeom>
          <a:solidFill>
            <a:srgbClr val="f8fbfc"/>
          </a:solidFill>
          <a:ln w="255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期待される展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ＭＳ Ｐゴシック"/>
                <a:ea typeface="メイリオ"/>
              </a:rPr>
              <a:t>※</a:t>
            </a:r>
            <a:r>
              <a:rPr b="0" lang="ja-JP" sz="1200" spc="-1" strike="noStrike">
                <a:solidFill>
                  <a:srgbClr val="ff0000"/>
                </a:solidFill>
                <a:latin typeface="ＭＳ Ｐゴシック"/>
                <a:ea typeface="メイリオ"/>
              </a:rPr>
              <a:t>わかりやすい記載をお願いいた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ＭＳ Ｐゴシック"/>
                <a:ea typeface="メイリオ"/>
              </a:rPr>
              <a:t>※</a:t>
            </a:r>
            <a:r>
              <a:rPr b="0" lang="ja-JP" sz="1200" spc="-1" strike="noStrike">
                <a:solidFill>
                  <a:srgbClr val="ff0000"/>
                </a:solidFill>
                <a:latin typeface="ＭＳ Ｐゴシック"/>
                <a:ea typeface="メイリオ"/>
              </a:rPr>
              <a:t>フォントは</a:t>
            </a:r>
            <a:r>
              <a:rPr b="0" lang="en-US" sz="1200" spc="-1" strike="noStrike">
                <a:solidFill>
                  <a:srgbClr val="ff0000"/>
                </a:solidFill>
                <a:latin typeface="ＭＳ Ｐゴシック"/>
                <a:ea typeface="メイリオ"/>
              </a:rPr>
              <a:t>12PT</a:t>
            </a:r>
            <a:r>
              <a:rPr b="0" lang="ja-JP" sz="1200" spc="-1" strike="noStrike">
                <a:solidFill>
                  <a:srgbClr val="ff0000"/>
                </a:solidFill>
                <a:latin typeface="ＭＳ Ｐゴシック"/>
                <a:ea typeface="メイリオ"/>
              </a:rPr>
              <a:t>以上でお願いいたします。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正方形/長方形 57"/>
          <p:cNvSpPr/>
          <p:nvPr/>
        </p:nvSpPr>
        <p:spPr>
          <a:xfrm>
            <a:off x="3935520" y="3319560"/>
            <a:ext cx="1260360" cy="2254320"/>
          </a:xfrm>
          <a:prstGeom prst="rect">
            <a:avLst/>
          </a:prstGeom>
          <a:solidFill>
            <a:srgbClr val="b2e0f0"/>
          </a:solidFill>
          <a:ln w="255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期待される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Ｐゴシック"/>
                <a:ea typeface="メイリオ"/>
              </a:rPr>
              <a:t>相乗効果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正方形/長方形 59"/>
          <p:cNvSpPr/>
          <p:nvPr/>
        </p:nvSpPr>
        <p:spPr>
          <a:xfrm>
            <a:off x="236520" y="3429000"/>
            <a:ext cx="3348000" cy="539640"/>
          </a:xfrm>
          <a:prstGeom prst="rect">
            <a:avLst/>
          </a:prstGeom>
          <a:solidFill>
            <a:srgbClr val="b2e0f0"/>
          </a:solidFill>
          <a:ln w="255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日本チーム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日本側の分担内容を記載して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正方形/長方形 66"/>
          <p:cNvSpPr/>
          <p:nvPr/>
        </p:nvSpPr>
        <p:spPr>
          <a:xfrm>
            <a:off x="165240" y="2421000"/>
            <a:ext cx="5127480" cy="784080"/>
          </a:xfrm>
          <a:prstGeom prst="rect">
            <a:avLst/>
          </a:prstGeom>
          <a:solidFill>
            <a:srgbClr val="f8fbfc"/>
          </a:solidFill>
          <a:ln w="255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背景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ＭＳ Ｐゴシック"/>
                <a:ea typeface="メイリオ"/>
              </a:rPr>
              <a:t>※</a:t>
            </a:r>
            <a:r>
              <a:rPr b="0" lang="ja-JP" sz="1200" spc="-1" strike="noStrike">
                <a:solidFill>
                  <a:srgbClr val="ff0000"/>
                </a:solidFill>
                <a:latin typeface="ＭＳ Ｐゴシック"/>
                <a:ea typeface="メイリオ"/>
              </a:rPr>
              <a:t>わかりやすい記載をお願いいた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ＭＳ Ｐゴシック"/>
                <a:ea typeface="メイリオ"/>
              </a:rPr>
              <a:t>※</a:t>
            </a:r>
            <a:r>
              <a:rPr b="0" lang="ja-JP" sz="1200" spc="-1" strike="noStrike">
                <a:solidFill>
                  <a:srgbClr val="ff0000"/>
                </a:solidFill>
                <a:latin typeface="ＭＳ Ｐゴシック"/>
                <a:ea typeface="メイリオ"/>
              </a:rPr>
              <a:t>フォントは</a:t>
            </a:r>
            <a:r>
              <a:rPr b="0" lang="en-US" sz="1200" spc="-1" strike="noStrike">
                <a:solidFill>
                  <a:srgbClr val="ff0000"/>
                </a:solidFill>
                <a:latin typeface="ＭＳ Ｐゴシック"/>
                <a:ea typeface="メイリオ"/>
              </a:rPr>
              <a:t>12PT</a:t>
            </a:r>
            <a:r>
              <a:rPr b="0" lang="ja-JP" sz="1200" spc="-1" strike="noStrike">
                <a:solidFill>
                  <a:srgbClr val="ff0000"/>
                </a:solidFill>
                <a:latin typeface="ＭＳ Ｐゴシック"/>
                <a:ea typeface="メイリオ"/>
              </a:rPr>
              <a:t>以上でお願いいたします。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正方形/長方形 70"/>
          <p:cNvSpPr/>
          <p:nvPr/>
        </p:nvSpPr>
        <p:spPr>
          <a:xfrm>
            <a:off x="6465960" y="5315040"/>
            <a:ext cx="26859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図．＜図のタイトルを記載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正方形/長方形 19"/>
          <p:cNvSpPr/>
          <p:nvPr/>
        </p:nvSpPr>
        <p:spPr>
          <a:xfrm>
            <a:off x="236520" y="4041720"/>
            <a:ext cx="3348000" cy="539640"/>
          </a:xfrm>
          <a:prstGeom prst="rect">
            <a:avLst/>
          </a:prstGeom>
          <a:solidFill>
            <a:srgbClr val="b2e0f0"/>
          </a:solidFill>
          <a:ln w="255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欧州側＜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A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国＞ 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A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国側の分担内容を記載して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正方形/長方形 20"/>
          <p:cNvSpPr/>
          <p:nvPr/>
        </p:nvSpPr>
        <p:spPr>
          <a:xfrm>
            <a:off x="236520" y="4653000"/>
            <a:ext cx="3348000" cy="539640"/>
          </a:xfrm>
          <a:prstGeom prst="rect">
            <a:avLst/>
          </a:prstGeom>
          <a:solidFill>
            <a:srgbClr val="b2e0f0"/>
          </a:solidFill>
          <a:ln w="255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欧州側＜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B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国＞ 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B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国側の分担内容を記載して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正方形/長方形 21"/>
          <p:cNvSpPr/>
          <p:nvPr/>
        </p:nvSpPr>
        <p:spPr>
          <a:xfrm>
            <a:off x="236520" y="5265720"/>
            <a:ext cx="3348000" cy="539640"/>
          </a:xfrm>
          <a:prstGeom prst="rect">
            <a:avLst/>
          </a:prstGeom>
          <a:solidFill>
            <a:srgbClr val="b2e0f0"/>
          </a:solidFill>
          <a:ln w="255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欧州側＜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C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国＞ 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C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国側の分担内容を記載して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右中かっこ 3"/>
          <p:cNvSpPr/>
          <p:nvPr/>
        </p:nvSpPr>
        <p:spPr>
          <a:xfrm>
            <a:off x="3657600" y="3787920"/>
            <a:ext cx="216000" cy="1620720"/>
          </a:xfrm>
          <a:custGeom>
            <a:avLst/>
            <a:gdLst>
              <a:gd name="textAreaLeft" fmla="*/ 0 w 216000"/>
              <a:gd name="textAreaRight" fmla="*/ 78120 w 216000"/>
              <a:gd name="textAreaTop" fmla="*/ 5400 h 1620720"/>
              <a:gd name="textAreaBottom" fmla="*/ 1615320 h 16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0"/>
                  <a:pt x="10800" y="240"/>
                </a:cubicBezTo>
                <a:lnTo>
                  <a:pt x="10800" y="10560"/>
                </a:lnTo>
                <a:cubicBezTo>
                  <a:pt x="10800" y="10680"/>
                  <a:pt x="16200" y="10800"/>
                  <a:pt x="21600" y="10800"/>
                </a:cubicBezTo>
                <a:cubicBezTo>
                  <a:pt x="16200" y="10800"/>
                  <a:pt x="10800" y="10920"/>
                  <a:pt x="10800" y="11040"/>
                </a:cubicBezTo>
                <a:lnTo>
                  <a:pt x="10800" y="21360"/>
                </a:lnTo>
                <a:cubicBezTo>
                  <a:pt x="10800" y="2148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四角形: メモ 22"/>
          <p:cNvSpPr/>
          <p:nvPr/>
        </p:nvSpPr>
        <p:spPr>
          <a:xfrm>
            <a:off x="6340320" y="2820960"/>
            <a:ext cx="2448000" cy="1933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Ｐゴシック"/>
              </a:rPr>
              <a:t>提案内容がわかる図（複数可）を挿入くださ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必要に応じて、図の説明をご記入くださ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正方形/長方形 24"/>
          <p:cNvSpPr/>
          <p:nvPr/>
        </p:nvSpPr>
        <p:spPr>
          <a:xfrm>
            <a:off x="5554800" y="6165720"/>
            <a:ext cx="4170240" cy="596880"/>
          </a:xfrm>
          <a:prstGeom prst="rect">
            <a:avLst/>
          </a:prstGeom>
          <a:solidFill>
            <a:srgbClr val="d9d9d9"/>
          </a:solidFill>
          <a:ln w="255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事務局コメント欄：記載不要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5T02:37:35Z</dcterms:created>
  <dc:creator/>
  <dc:description/>
  <dc:language>en-US</dc:language>
  <cp:lastModifiedBy/>
  <dcterms:modified xsi:type="dcterms:W3CDTF">2019-04-15T02:37:42Z</dcterms:modified>
  <cp:revision>1</cp:revision>
  <dc:subject/>
  <dc:title/>
</cp:coreProperties>
</file>