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665-B522-4862-8C55-3CFD158B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0F4-3DF0-4644-B270-5ACCFDF6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8A40-4D6C-4670-98F9-F56E019D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70D-9CFA-4E72-B0B8-D7CA0058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47E2-D22B-4B1E-8762-0CA489B3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FDB7-329C-4A05-A3AD-9B0D14DD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DBD-97B2-4F3D-A8A3-091A123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AF3-15BD-4A7B-B6F6-E723C55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49A-E11E-4D40-A69B-7C5E18D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2A5-0EC4-4EB0-87BE-84B80E63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5C98-9F77-4373-AE18-4B0A2470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5EA-D4C0-41F6-AECC-8EDC47C1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B08B-E30C-4861-92F0-7DA4FFFDE1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055"/>
          <p:cNvGrpSpPr/>
          <p:nvPr/>
        </p:nvGrpSpPr>
        <p:grpSpPr>
          <a:xfrm>
            <a:off x="189000" y="857160"/>
            <a:ext cx="7300800" cy="5479920"/>
            <a:chOff x="189000" y="857160"/>
            <a:chExt cx="7300800" cy="5479920"/>
          </a:xfrm>
        </p:grpSpPr>
        <p:sp>
          <p:nvSpPr>
            <p:cNvPr id="42" name="フリーフォーム 29"/>
            <p:cNvSpPr/>
            <p:nvPr/>
          </p:nvSpPr>
          <p:spPr>
            <a:xfrm>
              <a:off x="583920" y="2336760"/>
              <a:ext cx="325440" cy="3932640"/>
            </a:xfrm>
            <a:custGeom>
              <a:avLst/>
              <a:gdLst/>
              <a:ahLst/>
              <a:rect l="l" t="t" r="r" b="b"/>
              <a:pathLst>
                <a:path w="325412" h="4325303">
                  <a:moveTo>
                    <a:pt x="6350" y="953"/>
                  </a:moveTo>
                  <a:cubicBezTo>
                    <a:pt x="4233" y="1442403"/>
                    <a:pt x="2117" y="2883853"/>
                    <a:pt x="0" y="4325303"/>
                  </a:cubicBezTo>
                  <a:lnTo>
                    <a:pt x="198629" y="4322892"/>
                  </a:lnTo>
                  <a:lnTo>
                    <a:pt x="325412" y="4262689"/>
                  </a:lnTo>
                  <a:lnTo>
                    <a:pt x="194683" y="4213661"/>
                  </a:lnTo>
                  <a:lnTo>
                    <a:pt x="99412" y="4214544"/>
                  </a:lnTo>
                  <a:cubicBezTo>
                    <a:pt x="100141" y="2809696"/>
                    <a:pt x="100871" y="1404848"/>
                    <a:pt x="101600" y="0"/>
                  </a:cubicBezTo>
                  <a:lnTo>
                    <a:pt x="6350" y="953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87ff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フリーフォーム 121"/>
            <p:cNvSpPr/>
            <p:nvPr/>
          </p:nvSpPr>
          <p:spPr>
            <a:xfrm>
              <a:off x="682560" y="2336760"/>
              <a:ext cx="334800" cy="1967040"/>
            </a:xfrm>
            <a:custGeom>
              <a:avLst/>
              <a:gdLst/>
              <a:ahLst/>
              <a:rect l="l" t="t" r="r" b="b"/>
              <a:pathLst>
                <a:path w="364863" h="4338859">
                  <a:moveTo>
                    <a:pt x="532" y="0"/>
                  </a:moveTo>
                  <a:cubicBezTo>
                    <a:pt x="-1585" y="1441450"/>
                    <a:pt x="3443" y="2897409"/>
                    <a:pt x="1326" y="4338859"/>
                  </a:cubicBezTo>
                  <a:lnTo>
                    <a:pt x="257708" y="4334023"/>
                  </a:lnTo>
                  <a:lnTo>
                    <a:pt x="364863" y="4206135"/>
                  </a:lnTo>
                  <a:lnTo>
                    <a:pt x="250564" y="4095881"/>
                  </a:lnTo>
                  <a:lnTo>
                    <a:pt x="100544" y="4094368"/>
                  </a:lnTo>
                  <a:cubicBezTo>
                    <a:pt x="98427" y="2735994"/>
                    <a:pt x="98693" y="1359887"/>
                    <a:pt x="96576" y="1513"/>
                  </a:cubicBezTo>
                  <a:lnTo>
                    <a:pt x="53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ff"/>
                </a:gs>
                <a:gs pos="100000">
                  <a:srgbClr val="fab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角丸四角形吹き出し 17"/>
            <p:cNvSpPr/>
            <p:nvPr/>
          </p:nvSpPr>
          <p:spPr>
            <a:xfrm>
              <a:off x="5567400" y="3182760"/>
              <a:ext cx="1358640" cy="542880"/>
            </a:xfrm>
            <a:prstGeom prst="wedgeRoundRectCallout">
              <a:avLst>
                <a:gd name="adj1" fmla="val -67060"/>
                <a:gd name="adj2" fmla="val 84537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Calibri"/>
                </a:rPr>
                <a:t>③</a:t>
              </a:r>
              <a:r>
                <a:rPr b="0" lang="ja-JP" sz="1200" spc="-1" strike="noStrike">
                  <a:solidFill>
                    <a:srgbClr val="000000"/>
                  </a:solidFill>
                  <a:latin typeface="Calibri"/>
                </a:rPr>
                <a:t>基礎科学の知見を実現可能な技術に統合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グループ化 6"/>
            <p:cNvGrpSpPr/>
            <p:nvPr/>
          </p:nvGrpSpPr>
          <p:grpSpPr>
            <a:xfrm>
              <a:off x="562320" y="936360"/>
              <a:ext cx="4901760" cy="1414800"/>
              <a:chOff x="562320" y="936360"/>
              <a:chExt cx="4901760" cy="1414800"/>
            </a:xfrm>
          </p:grpSpPr>
          <p:sp>
            <p:nvSpPr>
              <p:cNvPr id="46" name="フリーフォーム 2"/>
              <p:cNvSpPr/>
              <p:nvPr/>
            </p:nvSpPr>
            <p:spPr>
              <a:xfrm>
                <a:off x="562320" y="936360"/>
                <a:ext cx="4898880" cy="1251360"/>
              </a:xfrm>
              <a:custGeom>
                <a:avLst/>
                <a:gdLst/>
                <a:ahLst/>
                <a:rect l="l" t="t" r="r" b="b"/>
                <a:pathLst>
                  <a:path w="5320937" h="1358537">
                    <a:moveTo>
                      <a:pt x="0" y="1358537"/>
                    </a:moveTo>
                    <a:lnTo>
                      <a:pt x="748937" y="8708"/>
                    </a:lnTo>
                    <a:lnTo>
                      <a:pt x="5320937" y="0"/>
                    </a:lnTo>
                    <a:lnTo>
                      <a:pt x="4563292" y="1349828"/>
                    </a:lnTo>
                    <a:lnTo>
                      <a:pt x="0" y="13585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d8bcd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フリーフォーム 20"/>
              <p:cNvSpPr/>
              <p:nvPr/>
            </p:nvSpPr>
            <p:spPr>
              <a:xfrm>
                <a:off x="562320" y="2189160"/>
                <a:ext cx="4200120" cy="162000"/>
              </a:xfrm>
              <a:custGeom>
                <a:avLst/>
                <a:gdLst/>
                <a:ahLst/>
                <a:rect l="l" t="t" r="r" b="b"/>
                <a:pathLst>
                  <a:path w="4561657" h="883751">
                    <a:moveTo>
                      <a:pt x="0" y="837038"/>
                    </a:moveTo>
                    <a:cubicBezTo>
                      <a:pt x="2902" y="418374"/>
                      <a:pt x="-1338" y="285266"/>
                      <a:pt x="1564" y="9378"/>
                    </a:cubicBezTo>
                    <a:cubicBezTo>
                      <a:pt x="759459" y="-11033"/>
                      <a:pt x="3795959" y="9613"/>
                      <a:pt x="4561657" y="669"/>
                    </a:cubicBezTo>
                    <a:cubicBezTo>
                      <a:pt x="4559526" y="291062"/>
                      <a:pt x="4562157" y="593358"/>
                      <a:pt x="4560026" y="883751"/>
                    </a:cubicBezTo>
                    <a:lnTo>
                      <a:pt x="0" y="837038"/>
                    </a:lnTo>
                    <a:close/>
                  </a:path>
                </a:pathLst>
              </a:custGeom>
              <a:solidFill>
                <a:srgbClr val="ece0e8"/>
              </a:solidFill>
              <a:ln w="25560">
                <a:solidFill>
                  <a:srgbClr val="d8bcd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フリーフォーム 4"/>
              <p:cNvSpPr/>
              <p:nvPr/>
            </p:nvSpPr>
            <p:spPr>
              <a:xfrm>
                <a:off x="4767480" y="941040"/>
                <a:ext cx="696600" cy="1408680"/>
              </a:xfrm>
              <a:custGeom>
                <a:avLst/>
                <a:gdLst/>
                <a:ahLst/>
                <a:rect l="l" t="t" r="r" b="b"/>
                <a:pathLst>
                  <a:path w="757238" h="1528763">
                    <a:moveTo>
                      <a:pt x="0" y="1528763"/>
                    </a:moveTo>
                    <a:lnTo>
                      <a:pt x="757238" y="166688"/>
                    </a:lnTo>
                    <a:lnTo>
                      <a:pt x="752475" y="0"/>
                    </a:lnTo>
                    <a:lnTo>
                      <a:pt x="0" y="1352550"/>
                    </a:lnTo>
                    <a:lnTo>
                      <a:pt x="0" y="1528763"/>
                    </a:lnTo>
                    <a:close/>
                  </a:path>
                </a:pathLst>
              </a:custGeom>
              <a:solidFill>
                <a:srgbClr val="d096bd"/>
              </a:solidFill>
              <a:ln w="25560">
                <a:solidFill>
                  <a:srgbClr val="d8bcd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" name="直線コネクタ 8"/>
            <p:cNvSpPr/>
            <p:nvPr/>
          </p:nvSpPr>
          <p:spPr>
            <a:xfrm flipH="1">
              <a:off x="3744720" y="966600"/>
              <a:ext cx="663480" cy="1182600"/>
            </a:xfrm>
            <a:prstGeom prst="line">
              <a:avLst/>
            </a:prstGeom>
            <a:ln w="50760">
              <a:solidFill>
                <a:srgbClr val="b87ab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平行四辺形 31"/>
            <p:cNvSpPr/>
            <p:nvPr/>
          </p:nvSpPr>
          <p:spPr>
            <a:xfrm>
              <a:off x="2555640" y="1018800"/>
              <a:ext cx="1722240" cy="530280"/>
            </a:xfrm>
            <a:prstGeom prst="parallelogram">
              <a:avLst>
                <a:gd name="adj" fmla="val 56235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シ－２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システム化研究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平行四辺形 32"/>
            <p:cNvSpPr/>
            <p:nvPr/>
          </p:nvSpPr>
          <p:spPr>
            <a:xfrm>
              <a:off x="698400" y="1596960"/>
              <a:ext cx="1712880" cy="528480"/>
            </a:xfrm>
            <a:prstGeom prst="parallelogram">
              <a:avLst>
                <a:gd name="adj" fmla="val 56270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シ－３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システム化研究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平行四辺形 33"/>
            <p:cNvSpPr/>
            <p:nvPr/>
          </p:nvSpPr>
          <p:spPr>
            <a:xfrm>
              <a:off x="4206960" y="1010880"/>
              <a:ext cx="1128600" cy="522000"/>
            </a:xfrm>
            <a:prstGeom prst="parallelogram">
              <a:avLst>
                <a:gd name="adj" fmla="val 57875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r>
                <a:rPr b="0" i="1" lang="ja-JP" sz="900" spc="-1" strike="noStrike">
                  <a:solidFill>
                    <a:srgbClr val="ff0000"/>
                  </a:solidFill>
                  <a:latin typeface="ＭＳ Ｐゴシック"/>
                </a:rPr>
                <a:t>障壁シー１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○○○○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平行四辺形 39"/>
            <p:cNvSpPr/>
            <p:nvPr/>
          </p:nvSpPr>
          <p:spPr>
            <a:xfrm>
              <a:off x="217440" y="2100240"/>
              <a:ext cx="2663640" cy="341280"/>
            </a:xfrm>
            <a:prstGeom prst="parallelogram">
              <a:avLst>
                <a:gd name="adj" fmla="val 633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200" spc="-1" strike="noStrike">
                  <a:solidFill>
                    <a:srgbClr val="ff0000"/>
                  </a:solidFill>
                  <a:latin typeface="Calibri"/>
                </a:rPr>
                <a:t>システム化・技術統合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" name="グループ化 46"/>
            <p:cNvGrpSpPr/>
            <p:nvPr/>
          </p:nvGrpSpPr>
          <p:grpSpPr>
            <a:xfrm>
              <a:off x="5003280" y="857160"/>
              <a:ext cx="2486520" cy="1554840"/>
              <a:chOff x="5003280" y="857160"/>
              <a:chExt cx="2486520" cy="1554840"/>
            </a:xfrm>
          </p:grpSpPr>
          <p:sp>
            <p:nvSpPr>
              <p:cNvPr id="55" name="左矢印 47"/>
              <p:cNvSpPr/>
              <p:nvPr/>
            </p:nvSpPr>
            <p:spPr>
              <a:xfrm>
                <a:off x="5203440" y="1258920"/>
                <a:ext cx="1390680" cy="303120"/>
              </a:xfrm>
              <a:prstGeom prst="leftArrow">
                <a:avLst>
                  <a:gd name="adj1" fmla="val 50000"/>
                  <a:gd name="adj2" fmla="val 100402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22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000" spc="-1" strike="noStrike">
                    <a:solidFill>
                      <a:srgbClr val="c00000"/>
                    </a:solidFill>
                    <a:latin typeface="Calibri"/>
                  </a:rPr>
                  <a:t>ニーズ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左矢印 48"/>
              <p:cNvSpPr/>
              <p:nvPr/>
            </p:nvSpPr>
            <p:spPr>
              <a:xfrm flipH="1">
                <a:off x="5002920" y="1764000"/>
                <a:ext cx="1390680" cy="309600"/>
              </a:xfrm>
              <a:prstGeom prst="leftArrow">
                <a:avLst>
                  <a:gd name="adj1" fmla="val 50000"/>
                  <a:gd name="adj2" fmla="val 100360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2232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000" spc="-1" strike="noStrike">
                    <a:solidFill>
                      <a:srgbClr val="c00000"/>
                    </a:solidFill>
                    <a:latin typeface="Calibri"/>
                  </a:rPr>
                  <a:t>製品＆アウトカム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円/楕円 49"/>
              <p:cNvSpPr/>
              <p:nvPr/>
            </p:nvSpPr>
            <p:spPr>
              <a:xfrm rot="1153200">
                <a:off x="6484680" y="995040"/>
                <a:ext cx="771480" cy="13262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平行四辺形 50"/>
              <p:cNvSpPr/>
              <p:nvPr/>
            </p:nvSpPr>
            <p:spPr>
              <a:xfrm>
                <a:off x="6334200" y="857160"/>
                <a:ext cx="1155600" cy="1554840"/>
              </a:xfrm>
              <a:prstGeom prst="parallelogram">
                <a:avLst>
                  <a:gd name="adj" fmla="val 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000" spc="-1" strike="noStrike">
                    <a:solidFill>
                      <a:srgbClr val="c00000"/>
                    </a:solidFill>
                    <a:latin typeface="Calibri"/>
                  </a:rPr>
                  <a:t>ステー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000" spc="-1" strike="noStrike">
                    <a:solidFill>
                      <a:srgbClr val="c00000"/>
                    </a:solidFill>
                    <a:latin typeface="Calibri"/>
                  </a:rPr>
                  <a:t>ホルダ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グループ化 21"/>
            <p:cNvGrpSpPr/>
            <p:nvPr/>
          </p:nvGrpSpPr>
          <p:grpSpPr>
            <a:xfrm>
              <a:off x="1027080" y="2811960"/>
              <a:ext cx="6425640" cy="1517040"/>
              <a:chOff x="1027080" y="2811960"/>
              <a:chExt cx="6425640" cy="1517040"/>
            </a:xfrm>
          </p:grpSpPr>
          <p:sp>
            <p:nvSpPr>
              <p:cNvPr id="60" name="フリーフォーム 52"/>
              <p:cNvSpPr/>
              <p:nvPr/>
            </p:nvSpPr>
            <p:spPr>
              <a:xfrm>
                <a:off x="1027080" y="2811960"/>
                <a:ext cx="6425640" cy="1341000"/>
              </a:xfrm>
              <a:custGeom>
                <a:avLst/>
                <a:gdLst/>
                <a:ahLst/>
                <a:rect l="l" t="t" r="r" b="b"/>
                <a:pathLst>
                  <a:path w="5320937" h="1358537">
                    <a:moveTo>
                      <a:pt x="0" y="1358537"/>
                    </a:moveTo>
                    <a:lnTo>
                      <a:pt x="561128" y="592"/>
                    </a:lnTo>
                    <a:lnTo>
                      <a:pt x="5320937" y="0"/>
                    </a:lnTo>
                    <a:lnTo>
                      <a:pt x="4684026" y="1341712"/>
                    </a:lnTo>
                    <a:lnTo>
                      <a:pt x="0" y="13585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ac09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ac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フリーフォーム 53"/>
              <p:cNvSpPr/>
              <p:nvPr/>
            </p:nvSpPr>
            <p:spPr>
              <a:xfrm>
                <a:off x="1027080" y="4152960"/>
                <a:ext cx="5650920" cy="176040"/>
              </a:xfrm>
              <a:custGeom>
                <a:avLst/>
                <a:gdLst/>
                <a:ahLst/>
                <a:rect l="l" t="t" r="r" b="b"/>
                <a:pathLst>
                  <a:path w="4561657" h="883751">
                    <a:moveTo>
                      <a:pt x="0" y="837038"/>
                    </a:moveTo>
                    <a:cubicBezTo>
                      <a:pt x="2902" y="418374"/>
                      <a:pt x="-1338" y="285266"/>
                      <a:pt x="1564" y="9378"/>
                    </a:cubicBezTo>
                    <a:cubicBezTo>
                      <a:pt x="759459" y="-11033"/>
                      <a:pt x="3795959" y="9613"/>
                      <a:pt x="4561657" y="669"/>
                    </a:cubicBezTo>
                    <a:cubicBezTo>
                      <a:pt x="4559526" y="291062"/>
                      <a:pt x="4562157" y="593358"/>
                      <a:pt x="4560026" y="883751"/>
                    </a:cubicBezTo>
                    <a:lnTo>
                      <a:pt x="0" y="837038"/>
                    </a:lnTo>
                    <a:close/>
                  </a:path>
                </a:pathLst>
              </a:custGeom>
              <a:solidFill>
                <a:srgbClr val="fcd5b5"/>
              </a:solidFill>
              <a:ln w="25560">
                <a:solidFill>
                  <a:srgbClr val="fac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フリーフォーム 54"/>
              <p:cNvSpPr/>
              <p:nvPr/>
            </p:nvSpPr>
            <p:spPr>
              <a:xfrm>
                <a:off x="6678000" y="2818080"/>
                <a:ext cx="774720" cy="1509120"/>
              </a:xfrm>
              <a:custGeom>
                <a:avLst/>
                <a:gdLst/>
                <a:ahLst/>
                <a:rect l="l" t="t" r="r" b="b"/>
                <a:pathLst>
                  <a:path w="757238" h="1528763">
                    <a:moveTo>
                      <a:pt x="0" y="1528763"/>
                    </a:moveTo>
                    <a:lnTo>
                      <a:pt x="757238" y="166688"/>
                    </a:lnTo>
                    <a:lnTo>
                      <a:pt x="752475" y="0"/>
                    </a:lnTo>
                    <a:lnTo>
                      <a:pt x="0" y="1352550"/>
                    </a:lnTo>
                    <a:lnTo>
                      <a:pt x="0" y="1528763"/>
                    </a:lnTo>
                    <a:close/>
                  </a:path>
                </a:pathLst>
              </a:custGeom>
              <a:solidFill>
                <a:srgbClr val="f79d53"/>
              </a:solidFill>
              <a:ln w="25560">
                <a:solidFill>
                  <a:srgbClr val="fac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直線コネクタ 57"/>
            <p:cNvSpPr/>
            <p:nvPr/>
          </p:nvSpPr>
          <p:spPr>
            <a:xfrm flipH="1">
              <a:off x="5226120" y="2817720"/>
              <a:ext cx="661680" cy="1330200"/>
            </a:xfrm>
            <a:prstGeom prst="line">
              <a:avLst/>
            </a:prstGeom>
            <a:ln w="50760">
              <a:solidFill>
                <a:srgbClr val="bb9f7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平行四辺形 58"/>
            <p:cNvSpPr/>
            <p:nvPr/>
          </p:nvSpPr>
          <p:spPr>
            <a:xfrm>
              <a:off x="3622680" y="2841480"/>
              <a:ext cx="2160360" cy="392040"/>
            </a:xfrm>
            <a:prstGeom prst="parallelogram">
              <a:avLst>
                <a:gd name="adj" fmla="val 50003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２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平行四辺形 59"/>
            <p:cNvSpPr/>
            <p:nvPr/>
          </p:nvSpPr>
          <p:spPr>
            <a:xfrm>
              <a:off x="1150920" y="3706920"/>
              <a:ext cx="2160360" cy="390240"/>
            </a:xfrm>
            <a:prstGeom prst="parallelogram">
              <a:avLst>
                <a:gd name="adj" fmla="val 51233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５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平行四辺形 62"/>
            <p:cNvSpPr/>
            <p:nvPr/>
          </p:nvSpPr>
          <p:spPr>
            <a:xfrm>
              <a:off x="5730840" y="2847960"/>
              <a:ext cx="1536480" cy="385560"/>
            </a:xfrm>
            <a:prstGeom prst="parallelogram">
              <a:avLst>
                <a:gd name="adj" fmla="val 50736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e46c0a"/>
                  </a:solidFill>
                  <a:latin typeface="ＭＳ Ｐゴシック"/>
                </a:rPr>
                <a:t>障壁実ー１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○○○○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平行四辺形 67"/>
            <p:cNvSpPr/>
            <p:nvPr/>
          </p:nvSpPr>
          <p:spPr>
            <a:xfrm>
              <a:off x="577800" y="4152960"/>
              <a:ext cx="3224160" cy="198360"/>
            </a:xfrm>
            <a:prstGeom prst="parallelogram">
              <a:avLst>
                <a:gd name="adj" fmla="val 6343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1200" spc="-1" strike="noStrike">
                  <a:solidFill>
                    <a:srgbClr val="ff0000"/>
                  </a:solidFill>
                  <a:latin typeface="Calibri"/>
                </a:rPr>
                <a:t>　実現化技術・要素技術開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" name="グループ化 2053"/>
            <p:cNvGrpSpPr/>
            <p:nvPr/>
          </p:nvGrpSpPr>
          <p:grpSpPr>
            <a:xfrm>
              <a:off x="443160" y="4784760"/>
              <a:ext cx="6816960" cy="1552320"/>
              <a:chOff x="443160" y="4784760"/>
              <a:chExt cx="6816960" cy="1552320"/>
            </a:xfrm>
          </p:grpSpPr>
          <p:grpSp>
            <p:nvGrpSpPr>
              <p:cNvPr id="69" name="グループ化 91"/>
              <p:cNvGrpSpPr/>
              <p:nvPr/>
            </p:nvGrpSpPr>
            <p:grpSpPr>
              <a:xfrm>
                <a:off x="895680" y="4784760"/>
                <a:ext cx="6364440" cy="1517040"/>
                <a:chOff x="895680" y="4784760"/>
                <a:chExt cx="6364440" cy="1517040"/>
              </a:xfrm>
            </p:grpSpPr>
            <p:sp>
              <p:nvSpPr>
                <p:cNvPr id="70" name="フリーフォーム 92"/>
                <p:cNvSpPr/>
                <p:nvPr/>
              </p:nvSpPr>
              <p:spPr>
                <a:xfrm>
                  <a:off x="895680" y="4784760"/>
                  <a:ext cx="6361560" cy="1341000"/>
                </a:xfrm>
                <a:custGeom>
                  <a:avLst/>
                  <a:gdLst/>
                  <a:ahLst/>
                  <a:rect l="l" t="t" r="r" b="b"/>
                  <a:pathLst>
                    <a:path w="5320937" h="1358537">
                      <a:moveTo>
                        <a:pt x="0" y="1358537"/>
                      </a:moveTo>
                      <a:lnTo>
                        <a:pt x="561128" y="592"/>
                      </a:lnTo>
                      <a:lnTo>
                        <a:pt x="5320937" y="0"/>
                      </a:lnTo>
                      <a:lnTo>
                        <a:pt x="4684026" y="1341712"/>
                      </a:lnTo>
                      <a:lnTo>
                        <a:pt x="0" y="13585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ff66"/>
                    </a:gs>
                    <a:gs pos="100000">
                      <a:srgbClr val="ffffff"/>
                    </a:gs>
                  </a:gsLst>
                  <a:lin ang="5400000"/>
                </a:gradFill>
                <a:ln w="25560">
                  <a:solidFill>
                    <a:srgbClr val="a6da9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フリーフォーム 93"/>
                <p:cNvSpPr/>
                <p:nvPr/>
              </p:nvSpPr>
              <p:spPr>
                <a:xfrm>
                  <a:off x="895680" y="6125760"/>
                  <a:ext cx="5591520" cy="176040"/>
                </a:xfrm>
                <a:custGeom>
                  <a:avLst/>
                  <a:gdLst/>
                  <a:ahLst/>
                  <a:rect l="l" t="t" r="r" b="b"/>
                  <a:pathLst>
                    <a:path w="4561657" h="883751">
                      <a:moveTo>
                        <a:pt x="0" y="837038"/>
                      </a:moveTo>
                      <a:cubicBezTo>
                        <a:pt x="2902" y="418374"/>
                        <a:pt x="-1338" y="285266"/>
                        <a:pt x="1564" y="9378"/>
                      </a:cubicBezTo>
                      <a:cubicBezTo>
                        <a:pt x="759459" y="-11033"/>
                        <a:pt x="3795959" y="9613"/>
                        <a:pt x="4561657" y="669"/>
                      </a:cubicBezTo>
                      <a:cubicBezTo>
                        <a:pt x="4559526" y="291062"/>
                        <a:pt x="4562157" y="593358"/>
                        <a:pt x="4560026" y="883751"/>
                      </a:cubicBezTo>
                      <a:lnTo>
                        <a:pt x="0" y="837038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25560">
                  <a:solidFill>
                    <a:srgbClr val="a6da9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フリーフォーム 94"/>
                <p:cNvSpPr/>
                <p:nvPr/>
              </p:nvSpPr>
              <p:spPr>
                <a:xfrm>
                  <a:off x="6487200" y="4790880"/>
                  <a:ext cx="772920" cy="1509120"/>
                </a:xfrm>
                <a:custGeom>
                  <a:avLst/>
                  <a:gdLst/>
                  <a:ahLst/>
                  <a:rect l="l" t="t" r="r" b="b"/>
                  <a:pathLst>
                    <a:path w="757238" h="1528763">
                      <a:moveTo>
                        <a:pt x="0" y="1528763"/>
                      </a:moveTo>
                      <a:lnTo>
                        <a:pt x="757238" y="166688"/>
                      </a:lnTo>
                      <a:lnTo>
                        <a:pt x="752475" y="0"/>
                      </a:lnTo>
                      <a:lnTo>
                        <a:pt x="0" y="1352550"/>
                      </a:lnTo>
                      <a:lnTo>
                        <a:pt x="0" y="1528763"/>
                      </a:lnTo>
                      <a:close/>
                    </a:path>
                  </a:pathLst>
                </a:custGeom>
                <a:solidFill>
                  <a:srgbClr val="87ff4b"/>
                </a:solidFill>
                <a:ln w="25560">
                  <a:solidFill>
                    <a:srgbClr val="a6da9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3" name="直線コネクタ 97"/>
              <p:cNvSpPr/>
              <p:nvPr/>
            </p:nvSpPr>
            <p:spPr>
              <a:xfrm flipH="1">
                <a:off x="4788000" y="4811400"/>
                <a:ext cx="676080" cy="1305000"/>
              </a:xfrm>
              <a:prstGeom prst="line">
                <a:avLst/>
              </a:prstGeom>
              <a:ln w="50760">
                <a:solidFill>
                  <a:srgbClr val="7bb79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平行四辺形 99"/>
              <p:cNvSpPr/>
              <p:nvPr/>
            </p:nvSpPr>
            <p:spPr>
              <a:xfrm>
                <a:off x="1420920" y="4817880"/>
                <a:ext cx="2036520" cy="392040"/>
              </a:xfrm>
              <a:prstGeom prst="parallelogram">
                <a:avLst>
                  <a:gd name="adj" fmla="val 52043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１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平行四辺形 102"/>
              <p:cNvSpPr/>
              <p:nvPr/>
            </p:nvSpPr>
            <p:spPr>
              <a:xfrm>
                <a:off x="5419800" y="4830480"/>
                <a:ext cx="1709640" cy="274320"/>
              </a:xfrm>
              <a:prstGeom prst="parallelogram">
                <a:avLst>
                  <a:gd name="adj" fmla="val 51907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障壁知ー１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平行四辺形 107"/>
              <p:cNvSpPr/>
              <p:nvPr/>
            </p:nvSpPr>
            <p:spPr>
              <a:xfrm>
                <a:off x="443160" y="6076800"/>
                <a:ext cx="2509560" cy="260280"/>
              </a:xfrm>
              <a:prstGeom prst="parallelogram">
                <a:avLst>
                  <a:gd name="adj" fmla="val 6338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ja-JP" sz="1200" spc="-1" strike="noStrike">
                    <a:solidFill>
                      <a:srgbClr val="ff0000"/>
                    </a:solidFill>
                    <a:latin typeface="Calibri"/>
                  </a:rPr>
                  <a:t>知識基盤・基礎的研究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平行四辺形 119"/>
              <p:cNvSpPr/>
              <p:nvPr/>
            </p:nvSpPr>
            <p:spPr>
              <a:xfrm>
                <a:off x="1212840" y="5248080"/>
                <a:ext cx="2036520" cy="390240"/>
              </a:xfrm>
              <a:prstGeom prst="parallelogram">
                <a:avLst>
                  <a:gd name="adj" fmla="val 52065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３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平行四辺形 120"/>
              <p:cNvSpPr/>
              <p:nvPr/>
            </p:nvSpPr>
            <p:spPr>
              <a:xfrm>
                <a:off x="995400" y="5678280"/>
                <a:ext cx="2036520" cy="390240"/>
              </a:xfrm>
              <a:prstGeom prst="parallelogram">
                <a:avLst>
                  <a:gd name="adj" fmla="val 52065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５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平行四辺形 122"/>
              <p:cNvSpPr/>
              <p:nvPr/>
            </p:nvSpPr>
            <p:spPr>
              <a:xfrm>
                <a:off x="3319560" y="4811400"/>
                <a:ext cx="2036520" cy="392040"/>
              </a:xfrm>
              <a:prstGeom prst="parallelogram">
                <a:avLst>
                  <a:gd name="adj" fmla="val 52043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２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平行四辺形 123"/>
              <p:cNvSpPr/>
              <p:nvPr/>
            </p:nvSpPr>
            <p:spPr>
              <a:xfrm>
                <a:off x="3111480" y="5241600"/>
                <a:ext cx="2036520" cy="392040"/>
              </a:xfrm>
              <a:prstGeom prst="parallelogram">
                <a:avLst>
                  <a:gd name="adj" fmla="val 52043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４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平行四辺形 124"/>
              <p:cNvSpPr/>
              <p:nvPr/>
            </p:nvSpPr>
            <p:spPr>
              <a:xfrm>
                <a:off x="2894040" y="5672160"/>
                <a:ext cx="2036520" cy="392040"/>
              </a:xfrm>
              <a:prstGeom prst="parallelogram">
                <a:avLst>
                  <a:gd name="adj" fmla="val 52043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知－６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基礎研究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平行四辺形 125"/>
              <p:cNvSpPr/>
              <p:nvPr/>
            </p:nvSpPr>
            <p:spPr>
              <a:xfrm>
                <a:off x="5247000" y="5149800"/>
                <a:ext cx="1711080" cy="276120"/>
              </a:xfrm>
              <a:prstGeom prst="parallelogram">
                <a:avLst>
                  <a:gd name="adj" fmla="val 51870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障壁知ー２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平行四辺形 126"/>
              <p:cNvSpPr/>
              <p:nvPr/>
            </p:nvSpPr>
            <p:spPr>
              <a:xfrm>
                <a:off x="5075280" y="5468760"/>
                <a:ext cx="1711080" cy="276120"/>
              </a:xfrm>
              <a:prstGeom prst="parallelogram">
                <a:avLst>
                  <a:gd name="adj" fmla="val 51870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障壁知ー３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平行四辺形 129"/>
              <p:cNvSpPr/>
              <p:nvPr/>
            </p:nvSpPr>
            <p:spPr>
              <a:xfrm>
                <a:off x="4903920" y="5788080"/>
                <a:ext cx="1709640" cy="276120"/>
              </a:xfrm>
              <a:prstGeom prst="parallelogram">
                <a:avLst>
                  <a:gd name="adj" fmla="val 51884"/>
                </a:avLst>
              </a:prstGeom>
              <a:noFill/>
              <a:ln w="25560">
                <a:solidFill>
                  <a:srgbClr val="8ed0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6600"/>
                    </a:solidFill>
                    <a:latin typeface="ＭＳ Ｐゴシック"/>
                  </a:rPr>
                  <a:t>障壁知ー４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ja-JP" sz="900" spc="-1" strike="noStrike">
                    <a:solidFill>
                      <a:srgbClr val="000000"/>
                    </a:solidFill>
                    <a:latin typeface="ＭＳ Ｐゴシック"/>
                  </a:rPr>
                  <a:t>○○○○</a:t>
                </a:r>
                <a:endParaRPr b="0" lang="en-US" sz="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5" name="テキスト ボックス 4" descr=""/>
            <p:cNvPicPr/>
            <p:nvPr/>
          </p:nvPicPr>
          <p:blipFill>
            <a:blip r:embed="rId4"/>
            <a:stretch/>
          </p:blipFill>
          <p:spPr>
            <a:xfrm>
              <a:off x="189000" y="4474440"/>
              <a:ext cx="487440" cy="135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グループ化 2064"/>
            <p:cNvGrpSpPr/>
            <p:nvPr/>
          </p:nvGrpSpPr>
          <p:grpSpPr>
            <a:xfrm>
              <a:off x="2653200" y="2364480"/>
              <a:ext cx="3006360" cy="446760"/>
              <a:chOff x="2653200" y="2364480"/>
              <a:chExt cx="3006360" cy="446760"/>
            </a:xfrm>
          </p:grpSpPr>
          <p:grpSp>
            <p:nvGrpSpPr>
              <p:cNvPr id="87" name="グループ化 2052"/>
              <p:cNvGrpSpPr/>
              <p:nvPr/>
            </p:nvGrpSpPr>
            <p:grpSpPr>
              <a:xfrm>
                <a:off x="2653200" y="2364480"/>
                <a:ext cx="3006360" cy="446760"/>
                <a:chOff x="2653200" y="2364480"/>
                <a:chExt cx="3006360" cy="446760"/>
              </a:xfrm>
            </p:grpSpPr>
            <p:sp>
              <p:nvSpPr>
                <p:cNvPr id="88" name="L 字 2047"/>
                <p:cNvSpPr/>
                <p:nvPr/>
              </p:nvSpPr>
              <p:spPr>
                <a:xfrm flipH="1" flipV="1">
                  <a:off x="2817000" y="2527560"/>
                  <a:ext cx="2842560" cy="283320"/>
                </a:xfrm>
                <a:custGeom>
                  <a:avLst/>
                  <a:gdLst/>
                  <a:ahLst/>
                  <a:rect l="l" t="t" r="r" b="b"/>
                  <a:pathLst>
                    <a:path w="3087104" h="306914">
                      <a:moveTo>
                        <a:pt x="0" y="0"/>
                      </a:moveTo>
                      <a:lnTo>
                        <a:pt x="280019" y="0"/>
                      </a:lnTo>
                      <a:lnTo>
                        <a:pt x="280019" y="115489"/>
                      </a:lnTo>
                      <a:lnTo>
                        <a:pt x="3087104" y="115489"/>
                      </a:lnTo>
                      <a:lnTo>
                        <a:pt x="3087104" y="306914"/>
                      </a:lnTo>
                      <a:lnTo>
                        <a:pt x="0" y="3069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9d53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左矢印 2048"/>
                <p:cNvSpPr/>
                <p:nvPr/>
              </p:nvSpPr>
              <p:spPr>
                <a:xfrm rot="5400000">
                  <a:off x="3009600" y="2008080"/>
                  <a:ext cx="163800" cy="876600"/>
                </a:xfrm>
                <a:prstGeom prst="leftArrow">
                  <a:avLst>
                    <a:gd name="adj1" fmla="val 62009"/>
                    <a:gd name="adj2" fmla="val 60440"/>
                  </a:avLst>
                </a:pr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0" name="テキスト ボックス 10"/>
              <p:cNvSpPr/>
              <p:nvPr/>
            </p:nvSpPr>
            <p:spPr>
              <a:xfrm>
                <a:off x="3810960" y="2453040"/>
                <a:ext cx="1193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2501bf"/>
                    </a:solidFill>
                    <a:latin typeface="Calibri"/>
                  </a:rPr>
                  <a:t>要素技術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グループ化 2065"/>
            <p:cNvGrpSpPr/>
            <p:nvPr/>
          </p:nvGrpSpPr>
          <p:grpSpPr>
            <a:xfrm>
              <a:off x="3010320" y="4345200"/>
              <a:ext cx="2528280" cy="447120"/>
              <a:chOff x="3010320" y="4345200"/>
              <a:chExt cx="2528280" cy="447120"/>
            </a:xfrm>
          </p:grpSpPr>
          <p:grpSp>
            <p:nvGrpSpPr>
              <p:cNvPr id="92" name="グループ化 126"/>
              <p:cNvGrpSpPr/>
              <p:nvPr/>
            </p:nvGrpSpPr>
            <p:grpSpPr>
              <a:xfrm>
                <a:off x="3010320" y="4345200"/>
                <a:ext cx="2528280" cy="447120"/>
                <a:chOff x="3010320" y="4345200"/>
                <a:chExt cx="2528280" cy="447120"/>
              </a:xfrm>
            </p:grpSpPr>
            <p:sp>
              <p:nvSpPr>
                <p:cNvPr id="93" name="L 字 127"/>
                <p:cNvSpPr/>
                <p:nvPr/>
              </p:nvSpPr>
              <p:spPr>
                <a:xfrm flipH="1" flipV="1">
                  <a:off x="3216600" y="4508640"/>
                  <a:ext cx="2322000" cy="283680"/>
                </a:xfrm>
                <a:custGeom>
                  <a:avLst/>
                  <a:gdLst/>
                  <a:ahLst/>
                  <a:rect l="l" t="t" r="r" b="b"/>
                  <a:pathLst>
                    <a:path w="3089150" h="308638">
                      <a:moveTo>
                        <a:pt x="0" y="0"/>
                      </a:moveTo>
                      <a:lnTo>
                        <a:pt x="281592" y="0"/>
                      </a:lnTo>
                      <a:lnTo>
                        <a:pt x="281592" y="116137"/>
                      </a:lnTo>
                      <a:lnTo>
                        <a:pt x="3089150" y="116137"/>
                      </a:lnTo>
                      <a:lnTo>
                        <a:pt x="3089150" y="308638"/>
                      </a:lnTo>
                      <a:lnTo>
                        <a:pt x="0" y="30863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7ff4b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4" name="左矢印 128"/>
                <p:cNvSpPr/>
                <p:nvPr/>
              </p:nvSpPr>
              <p:spPr>
                <a:xfrm rot="5400000">
                  <a:off x="3464280" y="3891240"/>
                  <a:ext cx="163440" cy="1071360"/>
                </a:xfrm>
                <a:prstGeom prst="leftArrow">
                  <a:avLst>
                    <a:gd name="adj1" fmla="val 62009"/>
                    <a:gd name="adj2" fmla="val 60440"/>
                  </a:avLst>
                </a:prstGeom>
                <a:solidFill>
                  <a:srgbClr val="f79d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5" name="テキスト ボックス 11"/>
              <p:cNvSpPr/>
              <p:nvPr/>
            </p:nvSpPr>
            <p:spPr>
              <a:xfrm>
                <a:off x="3861360" y="4433400"/>
                <a:ext cx="147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2501bf"/>
                    </a:solidFill>
                    <a:latin typeface="Calibri"/>
                  </a:rPr>
                  <a:t>基礎的な知見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6" name="平行四辺形 86"/>
            <p:cNvSpPr/>
            <p:nvPr/>
          </p:nvSpPr>
          <p:spPr>
            <a:xfrm>
              <a:off x="1009440" y="1018800"/>
              <a:ext cx="1714320" cy="530280"/>
            </a:xfrm>
            <a:prstGeom prst="parallelogram">
              <a:avLst>
                <a:gd name="adj" fmla="val 56231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シ－１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システム化研究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平行四辺形 87"/>
            <p:cNvSpPr/>
            <p:nvPr/>
          </p:nvSpPr>
          <p:spPr>
            <a:xfrm>
              <a:off x="2233440" y="1596960"/>
              <a:ext cx="1722240" cy="528480"/>
            </a:xfrm>
            <a:prstGeom prst="parallelogram">
              <a:avLst>
                <a:gd name="adj" fmla="val 56260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ff0000"/>
                  </a:solidFill>
                  <a:latin typeface="ＭＳ Ｐゴシック"/>
                </a:rPr>
                <a:t>シ－４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システム化研究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平行四辺形 88"/>
            <p:cNvSpPr/>
            <p:nvPr/>
          </p:nvSpPr>
          <p:spPr>
            <a:xfrm>
              <a:off x="1366560" y="3274920"/>
              <a:ext cx="2160360" cy="390240"/>
            </a:xfrm>
            <a:prstGeom prst="parallelogram">
              <a:avLst>
                <a:gd name="adj" fmla="val 53694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３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平行四辺形 89"/>
            <p:cNvSpPr/>
            <p:nvPr/>
          </p:nvSpPr>
          <p:spPr>
            <a:xfrm>
              <a:off x="1604880" y="2841480"/>
              <a:ext cx="2114280" cy="392040"/>
            </a:xfrm>
            <a:prstGeom prst="parallelogram">
              <a:avLst>
                <a:gd name="adj" fmla="val 4878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１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平行四辺形 91"/>
            <p:cNvSpPr/>
            <p:nvPr/>
          </p:nvSpPr>
          <p:spPr>
            <a:xfrm>
              <a:off x="3406680" y="3274920"/>
              <a:ext cx="2160360" cy="390240"/>
            </a:xfrm>
            <a:prstGeom prst="parallelogram">
              <a:avLst>
                <a:gd name="adj" fmla="val 52464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４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平行四辺形 113"/>
            <p:cNvSpPr/>
            <p:nvPr/>
          </p:nvSpPr>
          <p:spPr>
            <a:xfrm>
              <a:off x="3182760" y="3706920"/>
              <a:ext cx="2160360" cy="390240"/>
            </a:xfrm>
            <a:prstGeom prst="parallelogram">
              <a:avLst>
                <a:gd name="adj" fmla="val 50029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e46c0a"/>
                  </a:solidFill>
                  <a:latin typeface="ＭＳ Ｐゴシック"/>
                </a:rPr>
                <a:t>実－６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ＭＳ Ｐゴシック"/>
                </a:rPr>
                <a:t>要素技術開発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平行四辺形 114"/>
            <p:cNvSpPr/>
            <p:nvPr/>
          </p:nvSpPr>
          <p:spPr>
            <a:xfrm>
              <a:off x="3876840" y="1587240"/>
              <a:ext cx="1128600" cy="522000"/>
            </a:xfrm>
            <a:prstGeom prst="parallelogram">
              <a:avLst>
                <a:gd name="adj" fmla="val 57875"/>
              </a:avLst>
            </a:prstGeom>
            <a:noFill/>
            <a:ln w="25560">
              <a:solidFill>
                <a:srgbClr val="916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　</a:t>
              </a:r>
              <a:r>
                <a:rPr b="0" i="1" lang="ja-JP" sz="900" spc="-1" strike="noStrike">
                  <a:solidFill>
                    <a:srgbClr val="ff0000"/>
                  </a:solidFill>
                  <a:latin typeface="ＭＳ Ｐゴシック"/>
                </a:rPr>
                <a:t>障壁シー２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○○○○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平行四辺形 117"/>
            <p:cNvSpPr/>
            <p:nvPr/>
          </p:nvSpPr>
          <p:spPr>
            <a:xfrm>
              <a:off x="5527800" y="3270240"/>
              <a:ext cx="1538280" cy="395280"/>
            </a:xfrm>
            <a:prstGeom prst="parallelogram">
              <a:avLst>
                <a:gd name="adj" fmla="val 5071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e46c0a"/>
                  </a:solidFill>
                  <a:latin typeface="ＭＳ Ｐゴシック"/>
                </a:rPr>
                <a:t>障壁実ー２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○○○○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平行四辺形 118"/>
            <p:cNvSpPr/>
            <p:nvPr/>
          </p:nvSpPr>
          <p:spPr>
            <a:xfrm>
              <a:off x="5308560" y="3706920"/>
              <a:ext cx="1536480" cy="390240"/>
            </a:xfrm>
            <a:prstGeom prst="parallelogram">
              <a:avLst>
                <a:gd name="adj" fmla="val 50747"/>
              </a:avLst>
            </a:prstGeom>
            <a:noFill/>
            <a:ln w="25560">
              <a:solidFill>
                <a:srgbClr val="fac0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e46c0a"/>
                  </a:solidFill>
                  <a:latin typeface="ＭＳ Ｐゴシック"/>
                </a:rPr>
                <a:t>障壁実ー３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900" spc="-1" strike="noStrike">
                  <a:solidFill>
                    <a:srgbClr val="000000"/>
                  </a:solidFill>
                  <a:latin typeface="ＭＳ Ｐゴシック"/>
                </a:rPr>
                <a:t>○○○○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テキスト ボックス 2050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○○イノベーションハブ」　３層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テキスト ボックス 2059"/>
          <p:cNvSpPr/>
          <p:nvPr/>
        </p:nvSpPr>
        <p:spPr>
          <a:xfrm>
            <a:off x="-50760" y="-7920"/>
            <a:ext cx="141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（様式</a:t>
            </a:r>
            <a:r>
              <a:rPr b="1" lang="en-US" sz="1100" spc="-1" strike="noStrike">
                <a:solidFill>
                  <a:srgbClr val="000000"/>
                </a:solidFill>
                <a:latin typeface="Century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別添１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2060"/>
          <p:cNvSpPr/>
          <p:nvPr/>
        </p:nvSpPr>
        <p:spPr>
          <a:xfrm>
            <a:off x="7418520" y="3321000"/>
            <a:ext cx="1654200" cy="3232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従来からの関連機関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大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大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（株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（独）○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県○○センタ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Calibri"/>
              </a:rPr>
              <a:t>（新たに連携が期待できる機関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大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（株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分野の研究機関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業界のセットメーカ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○○</a:t>
            </a:r>
            <a:r>
              <a:rPr b="0" lang="ja-JP" sz="900" spc="-1" strike="noStrike">
                <a:solidFill>
                  <a:srgbClr val="000000"/>
                </a:solidFill>
                <a:latin typeface="Calibri"/>
              </a:rPr>
              <a:t>材料製造会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132"/>
          <p:cNvSpPr/>
          <p:nvPr/>
        </p:nvSpPr>
        <p:spPr>
          <a:xfrm>
            <a:off x="0" y="549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</a:rPr>
              <a:t>※</a:t>
            </a:r>
            <a:r>
              <a:rPr b="0" i="1" lang="ja-JP" sz="1000" spc="-1" strike="noStrike">
                <a:solidFill>
                  <a:srgbClr val="0070c0"/>
                </a:solidFill>
                <a:latin typeface="Calibri"/>
              </a:rPr>
              <a:t>番号や黒字は書き換えてください。３層構造で必要事項が記入されていれば、項目数を含め、図は適宜アレンジしていただいて結構です。ハブ全体で１枚と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テキスト ボックス 9"/>
          <p:cNvSpPr/>
          <p:nvPr/>
        </p:nvSpPr>
        <p:spPr>
          <a:xfrm>
            <a:off x="179280" y="692280"/>
            <a:ext cx="2521080" cy="307080"/>
          </a:xfrm>
          <a:prstGeom prst="rect">
            <a:avLst/>
          </a:prstGeom>
          <a:solidFill>
            <a:srgbClr val="ffcc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0000"/>
                </a:solidFill>
                <a:latin typeface="Calibri"/>
              </a:rPr>
              <a:t>システム化・技術統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2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○○イノベーションハブ」　各層の概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6"/>
          <p:cNvSpPr/>
          <p:nvPr/>
        </p:nvSpPr>
        <p:spPr>
          <a:xfrm>
            <a:off x="431640" y="1257480"/>
            <a:ext cx="8461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１．現有技術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シ－①　「　　　　　　　項目名　　　　　　　　　　」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シ－②　「　　　　　　　項目名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２．実施予定テー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シ－１　「　　　　　　　項目名　　　　　　　　　　　」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シ－２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シ－３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シ－４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Calibri"/>
              </a:rPr>
              <a:t>３．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障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障壁シ－１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障壁シ－２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障壁シ－３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障壁シ－４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25"/>
          <p:cNvSpPr/>
          <p:nvPr/>
        </p:nvSpPr>
        <p:spPr>
          <a:xfrm>
            <a:off x="5184720" y="717480"/>
            <a:ext cx="37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</a:rPr>
              <a:t>※</a:t>
            </a:r>
            <a:r>
              <a:rPr b="0" i="1" lang="ja-JP" sz="1000" spc="-1" strike="noStrike">
                <a:solidFill>
                  <a:srgbClr val="0070c0"/>
                </a:solidFill>
                <a:latin typeface="Calibri"/>
              </a:rPr>
              <a:t>現有技術と３層図に記載した項目の概要を記載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テキスト ボックス 2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○○イノベーションハブ」　各層の概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7"/>
          <p:cNvSpPr/>
          <p:nvPr/>
        </p:nvSpPr>
        <p:spPr>
          <a:xfrm>
            <a:off x="179280" y="765000"/>
            <a:ext cx="2521080" cy="30708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e46c0a"/>
                </a:solidFill>
                <a:latin typeface="Calibri"/>
              </a:rPr>
              <a:t>実現化技術・要素技術開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6"/>
          <p:cNvSpPr/>
          <p:nvPr/>
        </p:nvSpPr>
        <p:spPr>
          <a:xfrm>
            <a:off x="431640" y="1257480"/>
            <a:ext cx="8461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１．現有技術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①　「　　　　　　　項目名　　　　　　　　　　」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②　「　　　　　　　項目名　　　　　　　　　　」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２．実施予定テー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１　「　　　　　　　項目名　　　　　　　　　　　」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２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３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実－４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Calibri"/>
              </a:rPr>
              <a:t>３．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障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障壁実－１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障壁実－２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障壁実－３　「　　　　　　　項目名　　　　　　　　　　　」</a:t>
            </a:r>
            <a:r>
              <a:rPr b="0" lang="ja-JP" sz="1200" spc="-1" strike="noStrike">
                <a:solidFill>
                  <a:srgbClr val="e46c0a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e46c0a"/>
                </a:solidFill>
                <a:latin typeface="ＭＳ Ｐゴシック"/>
              </a:rPr>
              <a:t>障壁実－４　「　　　　　　　項目名　　　　　　　　　　　」</a:t>
            </a:r>
            <a:r>
              <a:rPr b="0" lang="ja-JP" sz="1200" spc="-1" strike="noStrike">
                <a:solidFill>
                  <a:srgbClr val="e46c0a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14"/>
          <p:cNvSpPr/>
          <p:nvPr/>
        </p:nvSpPr>
        <p:spPr>
          <a:xfrm>
            <a:off x="5184720" y="717480"/>
            <a:ext cx="37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</a:rPr>
              <a:t>※</a:t>
            </a:r>
            <a:r>
              <a:rPr b="0" i="1" lang="ja-JP" sz="1000" spc="-1" strike="noStrike">
                <a:solidFill>
                  <a:srgbClr val="0070c0"/>
                </a:solidFill>
                <a:latin typeface="Calibri"/>
              </a:rPr>
              <a:t>現有技術と３層図に記載した項目の概要を記載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テキスト ボックス 6"/>
          <p:cNvSpPr/>
          <p:nvPr/>
        </p:nvSpPr>
        <p:spPr>
          <a:xfrm>
            <a:off x="431640" y="1257480"/>
            <a:ext cx="8461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１．現有技術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知－①　「　　　　　　　項目名　　　　　　　　　　」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知－②　「　　　　　　　項目名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２．実施予定テー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知－１　「　　　　　　　項目名　　　　　　　　　　　」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知－２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知－３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ＭＳ Ｐゴシック"/>
              </a:rPr>
              <a:t>　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知－４　「　　　　　　　項目名　　　　　　　　　　　」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  <a:ea typeface="Calibri"/>
              </a:rPr>
              <a:t>３．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障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障壁知－１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障壁知－２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障壁知－３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b050"/>
                </a:solidFill>
                <a:latin typeface="ＭＳ Ｐゴシック"/>
              </a:rPr>
              <a:t>　障壁知－４　「　　　　　　　項目名　　　　　　　　　　　」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（概要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2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○○イノベーションハブ」　各層の概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3"/>
          <p:cNvSpPr/>
          <p:nvPr/>
        </p:nvSpPr>
        <p:spPr>
          <a:xfrm>
            <a:off x="179280" y="692280"/>
            <a:ext cx="2521080" cy="307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339933"/>
                </a:solidFill>
                <a:latin typeface="Calibri"/>
              </a:rPr>
              <a:t>知識基盤・基礎的研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13"/>
          <p:cNvSpPr/>
          <p:nvPr/>
        </p:nvSpPr>
        <p:spPr>
          <a:xfrm>
            <a:off x="5184720" y="717480"/>
            <a:ext cx="37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70c0"/>
                </a:solidFill>
                <a:latin typeface="Calibri"/>
              </a:rPr>
              <a:t>※</a:t>
            </a:r>
            <a:r>
              <a:rPr b="0" i="1" lang="ja-JP" sz="1000" spc="-1" strike="noStrike">
                <a:solidFill>
                  <a:srgbClr val="0070c0"/>
                </a:solidFill>
                <a:latin typeface="Calibri"/>
              </a:rPr>
              <a:t>現有技術と３層図に記載した項目の概要を記載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7T23:20:42Z</dcterms:created>
  <dc:creator>JST_USER</dc:creator>
  <dc:description/>
  <dc:language>en-US</dc:language>
  <cp:lastModifiedBy>JST_USER</cp:lastModifiedBy>
  <cp:lastPrinted>2014-11-27T10:38:13Z</cp:lastPrinted>
  <dcterms:modified xsi:type="dcterms:W3CDTF">2015-02-23T05:39:56Z</dcterms:modified>
  <cp:revision>88</cp:revision>
  <dc:subject/>
  <dc:title>PowerPoint プレゼンテーション</dc:title>
</cp:coreProperties>
</file>