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3C1-18C7-4E1C-93C8-F9C36A39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D2C-6A9A-4EED-9F83-326F7C8F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7E1-9C86-4636-A7D6-AF291C0F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872-7DD4-4499-B3B1-58A8FDE4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791-EA75-4FC3-9C31-D35E6C1F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96C-9779-44DD-828F-9D6D9C41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220-2038-4C24-AC4B-E9D8358F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B8E-4AB1-4B1A-96B2-90210DE3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DFA-D83A-4A2F-A840-00CCBF86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697-2FF7-4E70-A3C8-BBB07856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B39-3F06-4A89-BE0A-AB380D9D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72E-8729-4E28-9D42-306CEDE1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E319-B414-4C0B-AF36-32E5E68E9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6200000">
            <a:off x="2320920" y="4167000"/>
            <a:ext cx="792000" cy="684360"/>
          </a:xfrm>
          <a:custGeom>
            <a:avLst/>
            <a:gdLst>
              <a:gd name="textAreaLeft" fmla="*/ 0 w 792000"/>
              <a:gd name="textAreaRight" fmla="*/ 792360 w 792000"/>
              <a:gd name="textAreaTop" fmla="*/ 0 h 684360"/>
              <a:gd name="textAreaBottom" fmla="*/ 684720 h 68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302" stAng="10800000" swAng="5400000"/>
                <a:lnTo>
                  <a:pt x="12427" y="3858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300"/>
                </a:lnTo>
                <a:lnTo>
                  <a:pt x="12427" y="8300"/>
                </a:lnTo>
                <a:arcTo wR="7985" hR="3860" stAng="16200000" swAng="-5400000"/>
                <a:lnTo>
                  <a:pt x="4442" y="2160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8:10:54Z</dcterms:created>
  <dc:creator>takeo</dc:creator>
  <dc:description/>
  <dc:language>en-US</dc:language>
  <cp:lastModifiedBy>takeo</cp:lastModifiedBy>
  <dcterms:modified xsi:type="dcterms:W3CDTF">2005-09-15T08:11:04Z</dcterms:modified>
  <cp:revision>1</cp:revision>
  <dc:subject/>
  <dc:title>スライド 1</dc:title>
</cp:coreProperties>
</file>